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6.gif" ContentType="image/gif"/>
  <Override PartName="/ppt/media/image14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741-ADDB-46A1-9256-5F845FC3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049-1930-43A6-83E1-45DB9FB9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17B-535D-44B5-B6BE-5DF019FC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9C1-C603-4D87-BA2B-C24D89BB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1BE-64A1-4C66-8BB7-5C3A9BF7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E6E-3BFD-4518-900B-0755F48C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A9F-CA90-406F-8BD9-7CACE8A7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ED9-A2BF-4838-BE46-186455C1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F5A6-2055-4F74-89EE-04E800CD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9FF-985F-40D9-B9DA-F63CA2CF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907-D5CB-4F7D-904D-CC816F1A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63E2-FC08-41F4-B156-2FC8F800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A062-D196-4D4B-B45E-0744B0CB6B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1523880" y="762120"/>
            <a:ext cx="5867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езный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уральный мёд</a:t>
            </a:r>
            <a:r>
              <a:rPr b="1" lang="ru-RU" sz="5000" spc="-1" strike="noStrike">
                <a:solidFill>
                  <a:srgbClr val="b12d13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1042920" y="2492280"/>
            <a:ext cx="779616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990000"/>
                </a:solidFill>
                <a:latin typeface="Calibri"/>
                <a:ea typeface="Arial"/>
              </a:rPr>
              <a:t>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148360" y="3357720"/>
            <a:ext cx="309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нова Варвар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А класса МБОУ КГО Гимн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. руководитель: Тагакова Людмила Анатол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: Чертан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669040" y="-457920"/>
            <a:ext cx="3806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КГ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мн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ая конференци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и первые открыт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Вывод:</a:t>
            </a: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Моя гипотеза подтвердилас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и опыты работают, можно при помощи них проверить качество мёда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 работа, надеюсь, заинтересует моих друзей, и они будут проверять мёд, купленный родителями. </a:t>
            </a:r>
            <a:br>
              <a:rPr sz="3600"/>
            </a:br>
            <a:br>
              <a:rPr sz="2800"/>
            </a:b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6156360" y="3105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dis2"/>
          <p:cNvPicPr/>
          <p:nvPr/>
        </p:nvPicPr>
        <p:blipFill>
          <a:blip r:embed="rId2"/>
          <a:stretch/>
        </p:blipFill>
        <p:spPr>
          <a:xfrm>
            <a:off x="179280" y="4724280"/>
            <a:ext cx="1646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и научить выбирать настоящий натуральный мёд.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Выяснить, как  живут и работают пчел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ыяснить строение пчел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Выяснить процесс получения ме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роизвести опыты с медом</a:t>
            </a: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чела - великая труженица, приносящая неоценимую пользу и здоровье людям, если я проведу исследование, изучу литературу, то узнаю всё о пчёлах и мёде, смогу дать полезные советы друзь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  продукт пчеловодства -  мёд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жизнедеятельность пчё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ои исследования расширят мой кругозор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омогут узнать всё о пчелах и продуктах пчеловод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могу дать практические советы, как купить настоящий мёд, а не поддел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общество состоит из единственной матки, нескольких десятков тысяч рабочих пчёл и нескольких сотен трутней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24000" y="4149720"/>
            <a:ext cx="194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троение пче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pchelinaya-semya-580x251.jpg"/>
          <p:cNvPicPr/>
          <p:nvPr/>
        </p:nvPicPr>
        <p:blipFill>
          <a:blip r:embed="rId1"/>
          <a:stretch/>
        </p:blipFill>
        <p:spPr>
          <a:xfrm>
            <a:off x="2124000" y="1459080"/>
            <a:ext cx="5112000" cy="221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111\Desktop\картинки мёд\Smailik_pchelka_letit.gif"/>
          <p:cNvPicPr/>
          <p:nvPr/>
        </p:nvPicPr>
        <p:blipFill>
          <a:blip r:embed="rId2"/>
          <a:stretch/>
        </p:blipFill>
        <p:spPr>
          <a:xfrm>
            <a:off x="8337600" y="5877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111\Desktop\картинки мёд\Smailik_pchelka_letit.gif"/>
          <p:cNvPicPr/>
          <p:nvPr/>
        </p:nvPicPr>
        <p:blipFill>
          <a:blip r:embed="rId3"/>
          <a:stretch/>
        </p:blipFill>
        <p:spPr>
          <a:xfrm>
            <a:off x="2340000" y="5950080"/>
            <a:ext cx="80640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111\Desktop\картинки мёд\Smailik_pchelka_letit.gif"/>
          <p:cNvPicPr/>
          <p:nvPr/>
        </p:nvPicPr>
        <p:blipFill>
          <a:blip r:embed="rId4"/>
          <a:stretch/>
        </p:blipFill>
        <p:spPr>
          <a:xfrm>
            <a:off x="250920" y="981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5"/>
          <a:stretch/>
        </p:blipFill>
        <p:spPr>
          <a:xfrm>
            <a:off x="4552920" y="3952800"/>
            <a:ext cx="354168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68360" y="907560"/>
            <a:ext cx="81360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обочные продукты мёда</a:t>
            </a:r>
            <a:r>
              <a:rPr b="0" i="1" lang="ru-RU" sz="2400" spc="-1" strike="noStrike">
                <a:solidFill>
                  <a:srgbClr val="002060"/>
                </a:solidFill>
                <a:latin typeface="Arial Blac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оцессе производства мёда возникает четыре основных побочных продукта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оск, пыльца, маточное молочко и прополи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7" descr="C:\Users\111\Desktop\Downloads\293219 (1).jpg"/>
          <p:cNvPicPr/>
          <p:nvPr/>
        </p:nvPicPr>
        <p:blipFill>
          <a:blip r:embed="rId2"/>
          <a:stretch/>
        </p:blipFill>
        <p:spPr>
          <a:xfrm>
            <a:off x="395280" y="299736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111\Desktop\картинки мёд\1481631_6rsy2r.jpeg"/>
          <p:cNvPicPr/>
          <p:nvPr/>
        </p:nvPicPr>
        <p:blipFill>
          <a:blip r:embed="rId3"/>
          <a:stretch/>
        </p:blipFill>
        <p:spPr>
          <a:xfrm>
            <a:off x="1835280" y="4653000"/>
            <a:ext cx="2016000" cy="177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111\Desktop\картинки мёд\1364393257_1381492.png"/>
          <p:cNvPicPr/>
          <p:nvPr/>
        </p:nvPicPr>
        <p:blipFill>
          <a:blip r:embed="rId4"/>
          <a:stretch/>
        </p:blipFill>
        <p:spPr>
          <a:xfrm>
            <a:off x="6588000" y="4437000"/>
            <a:ext cx="2103480" cy="165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111\Desktop\картинки мёд\800px-Weiselzellen_68a-wiki.jpg"/>
          <p:cNvPicPr/>
          <p:nvPr/>
        </p:nvPicPr>
        <p:blipFill>
          <a:blip r:embed="rId5"/>
          <a:stretch/>
        </p:blipFill>
        <p:spPr>
          <a:xfrm>
            <a:off x="4286160" y="2854440"/>
            <a:ext cx="237672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Опыты с мёд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700000" y="1557000"/>
            <a:ext cx="604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тоящий мёд не скатывается с ложки слишком быстро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дет стекать непрерывной струйкой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дняя капля тянется к лож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м мёде чёрствый хлеб не размок, а остался чёрств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700360" y="3141720"/>
            <a:ext cx="6048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Определение воды в мё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685800" y="1508040"/>
            <a:ext cx="1798560" cy="21481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3"/>
          <a:stretch/>
        </p:blipFill>
        <p:spPr>
          <a:xfrm>
            <a:off x="685800" y="3954600"/>
            <a:ext cx="17985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-10800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504036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3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азать мед на бумажке, и на медовой полоске нарисовать что-нибудь химическим карандаш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исунок станет синим, значит мед настоящи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4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такан с медовой водой капнуть несколько капель й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едовая вода станет синей – мед не настоящ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8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2376360" cy="2868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3"/>
          <a:stretch/>
        </p:blipFill>
        <p:spPr>
          <a:xfrm>
            <a:off x="539640" y="663480"/>
            <a:ext cx="2413080" cy="24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ыт 5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Биологическая память мё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ем тарелку, положим ложку мёда, заливаем водой чуть больше чем мёд. Слегка болтаем по кругу и увидим появление ячеек на поверхности мё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ризнак натурального мё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1582560" y="4052880"/>
            <a:ext cx="1776600" cy="21099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>
            <a:off x="4859280" y="4052880"/>
            <a:ext cx="1800360" cy="2157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17:10:04Z</dcterms:created>
  <dc:creator>111</dc:creator>
  <dc:description/>
  <dc:language>en-US</dc:language>
  <cp:lastModifiedBy>КАБ 10Н</cp:lastModifiedBy>
  <dcterms:modified xsi:type="dcterms:W3CDTF">2024-02-07T08:32:08Z</dcterms:modified>
  <cp:revision>137</cp:revision>
  <dc:subject/>
  <dc:title>Слайд 1</dc:title>
</cp:coreProperties>
</file>